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F9D-7807-4596-B5B3-16A3EFFD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AA7-F82C-40B6-BBD2-87F16A81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408-44F5-46C2-9B2C-D6397120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543-4917-467C-8465-E3AE83CA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67D-E663-424A-9E5D-3EA8FE20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8EB6-6B39-4B8C-8E78-D5AFB7B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5D4-79C2-47EF-AC32-867FB93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1701-678F-4C43-AD69-92379A49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E8A7-0D82-478E-B359-AAEF836E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2B15-5BBF-45F6-862A-64C32C39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C9B-21A4-4431-B7B4-7196AF5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811-71C7-4D5E-975F-4D45982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747E-FDFF-4AE4-8962-934BE49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8E5C-5DD1-41DC-AC51-23934BB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AAE0-AF6C-43A3-A860-EF062B6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726-E770-4E2E-9F84-D450B358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4B3A-E83C-4B8D-A019-41A3FCC6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32E-847C-46C1-9FB4-F33427E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F95-9041-4F01-A900-F6E3FE3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C76-B52B-4E8B-8228-9EF1437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BC7-4215-45D0-9B4F-79DD9755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7DC-6B97-419A-9112-4D08C6F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8B8-7BA0-4E61-AB9B-BC1B392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82F-E503-41CD-A33E-9FD0326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1ED-313E-4F2C-BD83-6B2406B36E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0CA-D95D-4CBB-A932-77BB27BB62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5467" t="5195" r="7067" b="9092"/>
          <a:stretch/>
        </p:blipFill>
        <p:spPr>
          <a:xfrm>
            <a:off x="4516560" y="457200"/>
            <a:ext cx="4322520" cy="594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91440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here are lot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4’s that show up in the study of A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28600" y="457200"/>
            <a:ext cx="6019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Art Production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re are basically 4 kinds of art that we mak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t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present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xpress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Utility; Art as a tool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809880" cy="371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657600" y="144792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2238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618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omposition; Art for art sak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038480" cy="3994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2495520" cy="2495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657600" cy="222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rt that repres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74120" cy="3856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2640" y="533520"/>
            <a:ext cx="3969000" cy="5105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91160" y="533520"/>
            <a:ext cx="4071960" cy="5105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934320" cy="6026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ersonal Expres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236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3992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80880" y="304920"/>
            <a:ext cx="601992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First of all, there are the 4 Art Disciplin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sthe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Critic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3080" y="762120"/>
            <a:ext cx="3876480" cy="533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12272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025800" cy="388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1598760" cy="388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159372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0" t="0" r="4335" b="0"/>
          <a:stretch/>
        </p:blipFill>
        <p:spPr>
          <a:xfrm>
            <a:off x="5181480" y="304920"/>
            <a:ext cx="221004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33720" y="4343400"/>
            <a:ext cx="3200400" cy="219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638680" y="4343400"/>
            <a:ext cx="1252800" cy="219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467480" y="304920"/>
            <a:ext cx="1381320" cy="3886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162920" y="4343400"/>
            <a:ext cx="1677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80880" y="304920"/>
            <a:ext cx="601992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Art History we study 4 are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ul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urning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i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251316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3914640"/>
            <a:ext cx="3011400" cy="256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08200" y="228600"/>
            <a:ext cx="2922840" cy="415116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08200" y="4570560"/>
            <a:ext cx="2362320" cy="190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22800" y="358128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642000" y="1143000"/>
            <a:ext cx="2121120" cy="2146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80880" y="152280"/>
            <a:ext cx="66294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sthetics (Design)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 the study of why things look they way they d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un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657600" cy="452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952720" cy="37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220968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80880" y="533520"/>
            <a:ext cx="60199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rt Criticism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ans the steps we take when we think/talk about what we like or don’t and w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terp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3654720" cy="4567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019600" cy="20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17575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21:21:06Z</dcterms:created>
  <dc:creator>Ted Mallory</dc:creator>
  <dc:description/>
  <dc:language>en-US</dc:language>
  <cp:lastModifiedBy>Ted Mallory</cp:lastModifiedBy>
  <dcterms:modified xsi:type="dcterms:W3CDTF">2008-08-18T02:34:5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